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30423-C60F-42F3-9923-26E1E08B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8343-D2AE-4EA7-8919-92E4BBE7C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4F7F-AF0B-4883-A245-62F033988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D29B-3533-4631-9E58-0B2E28972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16903-C838-4AE9-AFBE-F4C7721EB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FD5F-3EFA-4C3D-AAD5-41FA400A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F853E-3097-4DDA-8378-5D512BF46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B9F-F700-4097-A3DE-1831BB2E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4F3D3-6FA2-4E85-BDD6-96E07EA5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A7541-8E18-47FF-86C0-0E435CE1E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58F95-2C37-40FE-95A6-2CA12B42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A2F11-0DAD-4A3E-9A38-F98D30534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1454-B2FB-4DB8-8FA0-F200CB82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CD56-4918-404A-A154-BE6F58DEA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918E-346E-47CC-91B3-BA7845F0E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6A8D-E5A3-45E5-9F79-08E9803AF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2184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72800" y="121932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2184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72800" y="3846240"/>
            <a:ext cx="2428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C22EB-F939-4CEE-BB6E-D85260045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DE47-C0EA-432E-961A-2AC751BB3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3D61-4866-4888-97FE-D3BAD164B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4F07-8BD6-4345-A0C6-65DDC27B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52280" y="304920"/>
            <a:ext cx="876312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B8F93-B49F-4A2E-B8E4-0C8F92F0F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B414-DF58-49CA-BB50-81E6B152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6920" y="384624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145-3A84-421D-9749-706752FF0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6920" y="1219320"/>
            <a:ext cx="3681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240" y="3846240"/>
            <a:ext cx="7543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6D7D-7C71-4E10-A781-4A6FABC48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133720" y="6477120"/>
            <a:ext cx="48765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7712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6D9E-A230-444C-8001-81F4659095E9}" type="slidenum">
              <a:rPr b="0" lang="en-US" sz="10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A73D-65F9-4762-9FEC-745CBCD9259E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457200" algn="ctr">
              <a:spcBef>
                <a:spcPts val="64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371600" algn="ctr">
              <a:spcBef>
                <a:spcPts val="550"/>
              </a:spcBef>
              <a:buClr>
                <a:srgbClr val="000000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514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Narrow"/>
              </a:rPr>
              <a:t>The Heat is On…</a:t>
            </a:r>
            <a:endParaRPr b="1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3479760"/>
            <a:ext cx="91440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Our K-W-L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"/>
          <p:cNvSpPr/>
          <p:nvPr/>
        </p:nvSpPr>
        <p:spPr>
          <a:xfrm>
            <a:off x="3200400" y="1219320"/>
            <a:ext cx="28018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ond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324480" y="1219320"/>
            <a:ext cx="266724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Learn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33520" y="1295280"/>
            <a:ext cx="28018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What w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Kn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bo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514600"/>
            <a:ext cx="77724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81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48520" y="12193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To answer our Wonder questions we need to… 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ow is heat evident in every day life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n you are really cold… how do you stay warm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en reading a story… what elements does an author use to get the attention of the reader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What is climate and how does climate impact society?</a:t>
            </a:r>
            <a:endParaRPr b="1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How can you visually organize numbers?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240" y="144756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Brainstorm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280" y="3049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 Narrow"/>
              </a:rPr>
              <a:t>Summary</a:t>
            </a:r>
            <a:endParaRPr b="1" lang="en-US" sz="3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71240" y="121932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Narrow"/>
              </a:rPr>
              <a:t>It’s all connected….</a:t>
            </a:r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5:08:29Z</dcterms:created>
  <dc:creator>Administrator</dc:creator>
  <dc:description/>
  <cp:keywords/>
  <dc:language>en-US</dc:language>
  <cp:lastModifiedBy>Administrator</cp:lastModifiedBy>
  <dcterms:modified xsi:type="dcterms:W3CDTF">2007-12-18T14:15:26Z</dcterms:modified>
  <cp:revision>4</cp:revision>
  <dc:subject/>
  <dc:title>The Heat is On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62560581033</vt:lpwstr>
  </property>
</Properties>
</file>